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4DCD-7BED-457B-8063-2931E19FB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1FD2-4EE9-442D-9E9E-A87D342E7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F2F6-9F50-4FFF-BB05-0C9B71F20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88E1-1307-4BB9-9C9B-07D0B346E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B8BB-3D0A-423E-A2C3-39CC5124E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AAD5-0691-4071-819A-62D144C05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B6B2-A89C-453D-AAB5-2C106417B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1F9A-AE59-4C8A-92F0-E4339FF4D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E01B-F806-40A5-A221-4DD2B40F3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8DCF-C130-4D8B-B497-48F92F709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8E2E-E609-4F9F-B192-F8BA026C6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D388-EE55-4BFC-88E5-7C375888A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990B4-66FA-4DB4-B542-B74683C9DA4A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Make Bas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utorial VVV20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July 20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Lorenzo Nat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sta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some builds include an installation ste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can add installation rules using CMak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Box 3"/>
          <p:cNvSpPr/>
          <p:nvPr/>
        </p:nvSpPr>
        <p:spPr>
          <a:xfrm>
            <a:off x="533160" y="3321000"/>
            <a:ext cx="691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stall(TARGETS myExe RUNTIME DESTINATION  &lt;dir&gt;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stall(FILES files DESTINATION &lt;dir&gt;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4"/>
          <p:cNvSpPr/>
          <p:nvPr/>
        </p:nvSpPr>
        <p:spPr>
          <a:xfrm>
            <a:off x="655560" y="4830840"/>
            <a:ext cx="7066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&lt;dir&gt; can b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bsolute path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lative path, in this case it will be CMAKE_INSTALL_PREFIX\&lt;dir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user can customize CMAKE_INSTALL_PREFIX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World with CMake (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add_executable(hello hello.cpp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install(TARGETS hello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RUNTIME DESTINATION 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${CMAKE_CURRENT_SOURCE_DIR}/../bi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nding librar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probl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ou want to compile an executable that links libraries from another package, e.g. YAR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aïve way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539640" y="3429000"/>
            <a:ext cx="799308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  <a:ea typeface="Verdana"/>
              </a:rPr>
              <a:t>cmake_minimum_required(VERSION 2.6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  <a:ea typeface="Verdana"/>
              </a:rPr>
              <a:t>project(hello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  <a:ea typeface="Verdana"/>
              </a:rPr>
              <a:t>include_directories(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Verdana"/>
              </a:rPr>
              <a:t>“C:\Program files\yarp\include”</a:t>
            </a:r>
            <a:r>
              <a:rPr b="0" lang="it-IT" sz="1400" spc="-1" strike="noStrike">
                <a:solidFill>
                  <a:srgbClr val="000000"/>
                </a:solidFill>
                <a:latin typeface="Verdana"/>
                <a:ea typeface="Verdana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  <a:ea typeface="Verdana"/>
              </a:rPr>
              <a:t>add_executable(hello hello.cpp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  <a:ea typeface="Verdana"/>
              </a:rPr>
              <a:t>target_link_libraries(hello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Verdana"/>
              </a:rPr>
              <a:t>“C:\Program files\yarp\lib\libYARP_OS.lib”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nding librar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probl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ou want to compile an executable that links libraries from another package, e.g. YAR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aïve way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539640" y="3429000"/>
            <a:ext cx="799308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  <a:ea typeface="Verdana"/>
              </a:rPr>
              <a:t>cmake_minimum_required(VERSION 2.6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  <a:ea typeface="Verdana"/>
              </a:rPr>
              <a:t>project(hello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  <a:ea typeface="Verdana"/>
              </a:rPr>
              <a:t>include_directories(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Verdana"/>
              </a:rPr>
              <a:t>“C:\Program files\yarp\include”</a:t>
            </a:r>
            <a:r>
              <a:rPr b="0" lang="it-IT" sz="1400" spc="-1" strike="noStrike">
                <a:solidFill>
                  <a:srgbClr val="000000"/>
                </a:solidFill>
                <a:latin typeface="Verdana"/>
                <a:ea typeface="Verdana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  <a:ea typeface="Verdana"/>
              </a:rPr>
              <a:t>add_executable(hello hello.cpp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  <a:ea typeface="Verdana"/>
              </a:rPr>
              <a:t>target_link_libraries(hello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Verdana"/>
              </a:rPr>
              <a:t>“C:\Program files\yarp\lib\libYARP_OS.lib”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2" name="Straight Arrow Connector 5"/>
          <p:cNvCxnSpPr/>
          <p:nvPr/>
        </p:nvCxnSpPr>
        <p:spPr>
          <a:xfrm flipH="1" flipV="1">
            <a:off x="5002920" y="5660280"/>
            <a:ext cx="864360" cy="23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3" name="Straight Arrow Connector 8"/>
          <p:cNvCxnSpPr/>
          <p:nvPr/>
        </p:nvCxnSpPr>
        <p:spPr>
          <a:xfrm flipH="1" flipV="1">
            <a:off x="4858920" y="4660200"/>
            <a:ext cx="1226160" cy="1230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TextBox 10"/>
          <p:cNvSpPr/>
          <p:nvPr/>
        </p:nvSpPr>
        <p:spPr>
          <a:xfrm>
            <a:off x="5902560" y="6021360"/>
            <a:ext cx="228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stallation depend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5" name="Straight Arrow Connector 12"/>
          <p:cNvCxnSpPr/>
          <p:nvPr/>
        </p:nvCxnSpPr>
        <p:spPr>
          <a:xfrm flipH="1">
            <a:off x="6300000" y="4436640"/>
            <a:ext cx="143640" cy="64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TextBox 13"/>
          <p:cNvSpPr/>
          <p:nvPr/>
        </p:nvSpPr>
        <p:spPr>
          <a:xfrm>
            <a:off x="6459480" y="4149720"/>
            <a:ext cx="26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s dependent (.a in Linux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nding libraries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240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Make has a few commands that can be used to find directories, executables and libraries inside a compu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468360" y="3129120"/>
            <a:ext cx="849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nd_file(&lt;var&gt; name dir1 dir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nd_library(&lt;var&gt; name dir1 dir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nd_path(&lt;var&gt; name dir1 dir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Content Placeholder 2"/>
          <p:cNvSpPr/>
          <p:nvPr/>
        </p:nvSpPr>
        <p:spPr>
          <a:xfrm>
            <a:off x="333360" y="4724280"/>
            <a:ext cx="82296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ever there is a better interface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nd_package(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68360" y="141264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 package should provide you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aths to librar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aths to header fi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inker flags (if an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nd_package(&lt;PACKAGE&gt;  [VERSION]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s function attempts to locate the package called &lt;PACKAGE&gt; and will return a set of variables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&lt;PACKAGE&gt;_FOUN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&lt;PACKAGE&gt;_INCLUDE_DI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&lt;PACKAGE&gt;_LIBRAR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&lt;PACKAGE&gt;_VERS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&lt;PACKAGE&gt;_VERSION_MAJ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&lt;PACKAGE&gt;_VERSION_MIN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9528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nd_package(YARP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ARP_F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ARP_INCLUDE_DI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ARP_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539640" y="691920"/>
            <a:ext cx="8229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ow does find_package() work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Looks for system directories (C:\Program files\&lt;package&gt; or /usr/&lt;package&gt; /usr/local/&lt;package&gt;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Look for environment variables, very popular &lt;PACKAGE&gt;_DI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Make does not enforce a particular set of variables each package set different variabl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ther example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&lt;PACKAGE&gt;_INCLUDE_DI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&lt;PACKAGE&gt;_LIB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tc.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YAR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Calibri"/>
              </a:rPr>
              <a:t>cmake_minimum_required(VERSION 2.6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Calibri"/>
              </a:rPr>
              <a:t>project(hello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Calibri"/>
              </a:rPr>
              <a:t>find_package(YARP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Calibri"/>
              </a:rPr>
              <a:t>include_directories(${YARP_INCLUDE_DIRS}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Calibri"/>
              </a:rPr>
              <a:t>add_executable(hello hello.cpp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Calibri"/>
              </a:rPr>
              <a:t>target_link_libraries(hello ${YARP_LIBRARIES}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en source build manag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ecify build parameters in a simple portab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3"/>
          <p:cNvSpPr/>
          <p:nvPr/>
        </p:nvSpPr>
        <p:spPr>
          <a:xfrm>
            <a:off x="1619280" y="3703680"/>
            <a:ext cx="1873080" cy="6426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ortable txt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MakeLists.t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Straight Arrow Connector 5"/>
          <p:cNvCxnSpPr>
            <a:stCxn id="45" idx="3"/>
          </p:cNvCxnSpPr>
          <p:nvPr/>
        </p:nvCxnSpPr>
        <p:spPr>
          <a:xfrm flipV="1">
            <a:off x="3492360" y="4025160"/>
            <a:ext cx="72000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7" name="TextBox 6"/>
          <p:cNvSpPr/>
          <p:nvPr/>
        </p:nvSpPr>
        <p:spPr>
          <a:xfrm>
            <a:off x="4356000" y="3832200"/>
            <a:ext cx="936720" cy="36828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Mak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7"/>
          <p:cNvSpPr/>
          <p:nvPr/>
        </p:nvSpPr>
        <p:spPr>
          <a:xfrm>
            <a:off x="6012000" y="3713040"/>
            <a:ext cx="1873080" cy="6426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ject Files (i.e. Makefile or .sl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9" name="Straight Arrow Connector 8"/>
          <p:cNvCxnSpPr/>
          <p:nvPr/>
        </p:nvCxnSpPr>
        <p:spPr>
          <a:xfrm flipV="1">
            <a:off x="5148000" y="4034880"/>
            <a:ext cx="71964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0" name="TextBox 9"/>
          <p:cNvSpPr/>
          <p:nvPr/>
        </p:nvSpPr>
        <p:spPr>
          <a:xfrm>
            <a:off x="715320" y="4869000"/>
            <a:ext cx="1852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de, header fi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10"/>
          <p:cNvSpPr/>
          <p:nvPr/>
        </p:nvSpPr>
        <p:spPr>
          <a:xfrm>
            <a:off x="3853080" y="4984920"/>
            <a:ext cx="22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r 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ystem ‘introspection’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2" name="Straight Arrow Connector 12"/>
          <p:cNvCxnSpPr/>
          <p:nvPr/>
        </p:nvCxnSpPr>
        <p:spPr>
          <a:xfrm flipV="1">
            <a:off x="1763640" y="4507920"/>
            <a:ext cx="288000" cy="36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3" name="Straight Arrow Connector 13"/>
          <p:cNvCxnSpPr/>
          <p:nvPr/>
        </p:nvCxnSpPr>
        <p:spPr>
          <a:xfrm flipV="1">
            <a:off x="4500720" y="4347360"/>
            <a:ext cx="143280" cy="637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blems solved by CMak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Write and maintain project files for multiple platform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Optional components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Build on more than a single machine: different OS have different libraries, same OS ca be installed differently 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automatically search for programs libraries header fil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Build directory tree different from source tre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Handle dependenci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tatic versus Dynamic librari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59984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mands (case insensitiv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riables (case sensitiv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3"/>
          <p:cNvSpPr/>
          <p:nvPr/>
        </p:nvSpPr>
        <p:spPr>
          <a:xfrm>
            <a:off x="539640" y="2997360"/>
            <a:ext cx="45957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mmand(a b c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t(FOO a b c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mmand(${FOO}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mmand(“${FOO}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sider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t(PATH_TO_MY_FILE C:\program files\myfil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mmand(${PATH_TO_MY_FILE}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mmand(“${PATH_TO_MY_FILE}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World with CMak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cmake_minimum_required(VERSION 2.6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project(hello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include_directories(${CMAKE_CURRENT_SOURCE_DIR}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message(STATUS "--&gt; Hello from CMake"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if (WIN32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message("--&gt; Running on windows"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else(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message("--&gt; Assuming running on Linux"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endif(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if (NOT EXISTS "${CMAKE_CURRENT_SOURCE_DIR}/hello.cpp"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message(FATAL_ERROR "File hello.cpp not found!"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endif(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add_executable(hello hello.cpp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to run CMak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urce versus build director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rom command lin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kdir buil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d buil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make ../ or ccmake ..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rom gu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kdir buil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make-gui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t source and build director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it “c” until you get “g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3"/>
          <p:cNvSpPr/>
          <p:nvPr/>
        </p:nvSpPr>
        <p:spPr>
          <a:xfrm>
            <a:off x="563400" y="5805360"/>
            <a:ext cx="5783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n build = source dir: in source buil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n build != source dir: out of source buil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ch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ome variables are determined only once and cached on disk; CMake will not touch them, only the us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.g. user options or result of system introspection, info that are expensive to determine (compiler to use, system libraries, etc..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o do a fresh restart, clean the cach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rom the gu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move CMakeCache.tx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mands on targe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d_executable(name file1.cpp file2.cpp header1.h header2.h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arget_link_libraries(name libnam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d_library(name file1.cpp file2.cpp header1.h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clude_directories(dir1 dir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d_definitions(-DFOO -DBA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#if _ENABLE_DEBUG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intf(“Value of variable v is %d”, v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#endi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ption(ENABLE_DEBUG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(ENABLE_DEBUG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d_definitions(-D_ENABLE_DEBUG_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dif(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8T11:01:40Z</dcterms:created>
  <dc:creator>nat</dc:creator>
  <dc:description/>
  <dc:language>en-US</dc:language>
  <cp:lastModifiedBy>nat</cp:lastModifiedBy>
  <dcterms:modified xsi:type="dcterms:W3CDTF">2011-07-19T08:50:41Z</dcterms:modified>
  <cp:revision>23</cp:revision>
  <dc:subject/>
  <dc:title>CMake</dc:title>
</cp:coreProperties>
</file>